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F78-6185-45AA-A54C-8CC91161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AA4-CF21-4896-B3FA-E232A11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15F-028A-4AD2-BD36-8A2A7448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E74-17A2-40D0-BE27-D919231A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7AB-8201-4CA2-9AE2-730FCCCE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DFA-F002-498C-AB27-D963281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69B2-22E1-4A11-B090-A36B689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CC2E-B9A5-4819-B379-1217922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671-E497-47BD-A182-E0E8A6B7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790B-1BEB-4F45-975E-89BD3D2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0246-A612-4B3E-BFEB-A28CD67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72F-C349-43A4-920B-C152D643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8B2-299D-4A7C-932A-C57D450A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8A7-7BAF-40AA-8330-F2AF798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3D7D-E626-4695-876B-5CBFF7F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ACF-C913-4D35-927D-1DECE66D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CCA7-9BB4-4299-9764-1F00DF1C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802-939B-4944-A32A-A3D412C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5A9-9DD9-43CC-ABA7-13EC23D2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EA5-883B-4B3C-ACDF-07943C5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48E-CC12-40BE-9C05-2440ACA6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8E3-CA2F-43E8-9F69-9C36DD5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865-ECF0-4AC5-AB84-42356C1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FDC-5F09-47DC-A33C-A6D93DC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909-9D12-4D10-B51F-479D48960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9C46-7656-49B6-890C-7EB738B5B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lackadder ITC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Emile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avie"/>
              </a:rPr>
              <a:t>numer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vie"/>
              </a:rPr>
              <a:t>The  top  number  of  a   fractions; represents the number of pieces out of the w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Numerical fraction 1/4"/>
          <p:cNvPicPr/>
          <p:nvPr/>
        </p:nvPicPr>
        <p:blipFill>
          <a:blip r:embed="rId1"/>
          <a:stretch/>
        </p:blipFill>
        <p:spPr>
          <a:xfrm>
            <a:off x="1447920" y="4038480"/>
            <a:ext cx="1457280" cy="1905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0400" y="4267080"/>
            <a:ext cx="2133720" cy="381240"/>
          </a:xfrm>
          <a:prstGeom prst="leftArrow">
            <a:avLst>
              <a:gd name="adj1" fmla="val 50000"/>
              <a:gd name="adj2" fmla="val 1399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denomin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The   bottom  number  of  a   fraction; represents the number of pieces that the whole is divided i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Numerical fraction 1/2"/>
          <p:cNvPicPr/>
          <p:nvPr/>
        </p:nvPicPr>
        <p:blipFill>
          <a:blip r:embed="rId1"/>
          <a:stretch/>
        </p:blipFill>
        <p:spPr>
          <a:xfrm>
            <a:off x="1295280" y="3505320"/>
            <a:ext cx="1457280" cy="1904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352680" y="4876920"/>
            <a:ext cx="3429000" cy="457200"/>
          </a:xfrm>
          <a:prstGeom prst="leftArrow">
            <a:avLst>
              <a:gd name="adj1" fmla="val 50000"/>
              <a:gd name="adj2" fmla="val 18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f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Part   of  a  whole   like   1  half; parts of a whole over the w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Numerical fraction 1/10"/>
          <p:cNvPicPr/>
          <p:nvPr/>
        </p:nvPicPr>
        <p:blipFill>
          <a:blip r:embed="rId1"/>
          <a:stretch/>
        </p:blipFill>
        <p:spPr>
          <a:xfrm>
            <a:off x="3352680" y="3295800"/>
            <a:ext cx="2718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2:02Z</dcterms:created>
  <dc:creator>emileigh.kincel</dc:creator>
  <dc:description/>
  <dc:language>en-US</dc:language>
  <cp:lastModifiedBy>emileigh.kincel</cp:lastModifiedBy>
  <dcterms:modified xsi:type="dcterms:W3CDTF">2010-11-23T20:31:55Z</dcterms:modified>
  <cp:revision>2</cp:revision>
  <dc:subject/>
  <dc:title>vocabulary</dc:title>
</cp:coreProperties>
</file>